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7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4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29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5A1-DB7E-4E82-9801-FED63F68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63D-2141-4C61-B3B3-420F3383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E20-0E7A-4C1B-BDB1-7D1DD0A6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1D6-E259-4976-989F-908F0E66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C9E6-0F5F-4C22-830B-F35F481E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73BF-B8F6-4601-827E-8BDE517C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5215-C471-40FA-8D5D-4627142A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EB2C-7943-4305-AE10-E22D9F3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9536-765B-44C1-B7B7-FDEA384C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AED6-4DEF-4814-A180-5129EDAF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C1C0-4B83-46D4-B70F-EB1DE31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302-2254-4765-A857-4AA69364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609A-05C8-4DA9-A93E-A37B647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ADE8-30F9-42C1-BAE7-0D5676D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349C-5EEF-4C78-9D9D-DC2E2CC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94A9-B994-4E11-AD7A-4C2DD198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4DF9-A806-4CDC-A423-AA084BF3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DB7-78D4-4DE3-B1CD-923A03A8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A6F-F50A-4885-BDDE-9BCED668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421-0D96-423B-B82C-CA105DDF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8ED-56B7-4665-869B-ADB21D08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F58-530E-4647-B822-C16BFC8D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E3F-234E-4436-AB9F-8F9A951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754-41B2-41C8-A917-5929B2CD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15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915240"/>
            <a:ext cx="321336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3E17D5D0-E59A-4A1A-A12E-D92B7875F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19051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69339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5320" y="6933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520" y="6933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853BFF45-0B84-4D83-A0B1-897632221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0" algn="ctr"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1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271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124080" y="55483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 of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Dray (Glebe Collegiate Instit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322800" y="1890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Geographer’s Toolkit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es on the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lines that measure the distance east or west of the Prime Meridian (0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nes begin and end at the poles and therefore are not at a fixed distance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e Meridian (0°) was arbitrarily chosen at a point that runs through Greenwich,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tional Date Line (180°) is the point where one day begins and one day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es on the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e Meri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332080" y="2119320"/>
            <a:ext cx="5943600" cy="5221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23000" y="1662120"/>
            <a:ext cx="38088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es on the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874880" y="2195640"/>
            <a:ext cx="6232320" cy="5157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75480" y="1967040"/>
            <a:ext cx="0" cy="4876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5080" y="1967040"/>
            <a:ext cx="685800" cy="4572000"/>
          </a:xfrm>
          <a:custGeom>
            <a:avLst/>
            <a:gdLst/>
            <a:ahLst/>
            <a:rect l="l" t="t" r="r" b="b"/>
            <a:pathLst>
              <a:path w="432" h="2880">
                <a:moveTo>
                  <a:pt x="96" y="0"/>
                </a:moveTo>
                <a:lnTo>
                  <a:pt x="96" y="864"/>
                </a:lnTo>
                <a:lnTo>
                  <a:pt x="240" y="1152"/>
                </a:lnTo>
                <a:lnTo>
                  <a:pt x="240" y="1200"/>
                </a:lnTo>
                <a:lnTo>
                  <a:pt x="0" y="1440"/>
                </a:lnTo>
                <a:lnTo>
                  <a:pt x="96" y="1536"/>
                </a:lnTo>
                <a:lnTo>
                  <a:pt x="96" y="2112"/>
                </a:lnTo>
                <a:lnTo>
                  <a:pt x="336" y="2112"/>
                </a:lnTo>
                <a:lnTo>
                  <a:pt x="288" y="2064"/>
                </a:lnTo>
                <a:lnTo>
                  <a:pt x="288" y="2016"/>
                </a:lnTo>
                <a:lnTo>
                  <a:pt x="432" y="2160"/>
                </a:lnTo>
                <a:lnTo>
                  <a:pt x="432" y="2208"/>
                </a:lnTo>
                <a:lnTo>
                  <a:pt x="336" y="2208"/>
                </a:lnTo>
                <a:lnTo>
                  <a:pt x="336" y="2160"/>
                </a:lnTo>
                <a:lnTo>
                  <a:pt x="144" y="2160"/>
                </a:lnTo>
                <a:lnTo>
                  <a:pt x="96" y="2160"/>
                </a:lnTo>
                <a:lnTo>
                  <a:pt x="192" y="2256"/>
                </a:lnTo>
                <a:lnTo>
                  <a:pt x="192" y="2640"/>
                </a:lnTo>
                <a:lnTo>
                  <a:pt x="144" y="2736"/>
                </a:lnTo>
                <a:lnTo>
                  <a:pt x="96" y="2736"/>
                </a:lnTo>
                <a:lnTo>
                  <a:pt x="96" y="288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627360" y="64627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89480" y="135720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6 time zones in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074920" y="2043000"/>
            <a:ext cx="228600" cy="14479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9601200" cy="6066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the relationship between the distance on a map and the actual distance on the Earth’s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Statement Sc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s words to describe what a distance on a map represents in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m = 10 kilome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ar Sc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s a special ruler on a map to show what a distance on a map represents in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k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 Fraction Sc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atio where one unit on a map represents a specific number of the same unit in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50 000 (1 cm on the map represents 50 000 cm in the real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32080" y="5091120"/>
            <a:ext cx="20574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1523880"/>
          <a:ext cx="9601200" cy="4362480"/>
        </p:xfrm>
        <a:graphic>
          <a:graphicData uri="http://schemas.openxmlformats.org/drawingml/2006/table">
            <a:tbl>
              <a:tblPr/>
              <a:tblGrid>
                <a:gridCol w="2400120"/>
                <a:gridCol w="2400480"/>
                <a:gridCol w="2400120"/>
                <a:gridCol w="2400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Scale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reets, schools, railway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graphic maps, road maps, city bus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cale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orders, lakes, large river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es, world maps, atl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72428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ebe Colleg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865600" y="2728800"/>
            <a:ext cx="6024240" cy="451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855960" y="4481640"/>
            <a:ext cx="1219320" cy="1215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1000" y="5091120"/>
            <a:ext cx="35049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6960" y="2805120"/>
            <a:ext cx="2219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637000" y="1585800"/>
            <a:ext cx="6426000" cy="5251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72428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ebe Community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41960" y="4484520"/>
            <a:ext cx="914400" cy="91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6480" y="5014800"/>
            <a:ext cx="28195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22600" y="4329000"/>
            <a:ext cx="22190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484360" y="2365200"/>
            <a:ext cx="6172200" cy="4624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72428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of Ottawa-Carl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684760" y="349092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41560" y="394812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79600" y="2652840"/>
            <a:ext cx="22190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Ontario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13160" y="2043000"/>
            <a:ext cx="5303880" cy="4530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885160" y="2805120"/>
            <a:ext cx="228600" cy="22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41960" y="288144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51400" y="2652840"/>
            <a:ext cx="22190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ario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94400" y="1433520"/>
            <a:ext cx="5084640" cy="5580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9037800" y="5396040"/>
            <a:ext cx="228600" cy="226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599160" y="547200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18080" y="4710240"/>
            <a:ext cx="2219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grapher’s Toolk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a M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53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53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Your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Map of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inage Map of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 Island Mapping Exerc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32280" y="1662120"/>
            <a:ext cx="5989680" cy="5114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199360" y="6081840"/>
            <a:ext cx="152640" cy="150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13360" y="615780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475080" y="5700600"/>
            <a:ext cx="2219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475080" y="2195640"/>
            <a:ext cx="6400800" cy="4011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998960" y="3795840"/>
            <a:ext cx="152640" cy="15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637000" y="394812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3262320"/>
            <a:ext cx="2219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5608440" cy="585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Purpos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p drawn to scale using symbols and colours to indicate major roads for transportation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ludes parks, hospitals, and tourist at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both small scale (a country map) and large scale (a city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989680" y="2119320"/>
            <a:ext cx="38019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31316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urpose Map of the “Golden Horseshoe” (Niagara Falls to Claringt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15000" y="1204920"/>
            <a:ext cx="4832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ographic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p that indicates scale, using symbols and colours for both natural and human features on the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Earth’s surface in great detail (large sc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s the height of land features (top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shows roads, settlements, vegetation cover, power li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37400" y="5014800"/>
            <a:ext cx="32702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38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graphic Map of Blue Mountain (Collingw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322800" y="1357200"/>
            <a:ext cx="66294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atic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p that reveals the geographic patterns of statist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esigned to display distributions over the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ocuses on o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 or top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population distrib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989680" y="3795840"/>
            <a:ext cx="38606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1296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atic map showing electricity generating stations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941560" y="1281240"/>
            <a:ext cx="70866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923000" y="2347920"/>
            <a:ext cx="455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4680" y="150984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Maps is an example of an onlin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103480" y="2119320"/>
            <a:ext cx="5943600" cy="479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408400" y="691992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88000"/>
          </a:bodyPr>
          <a:p>
            <a:pPr marL="333720" indent="-333720"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maps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 Ma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p is a representation of the Earth’s features drawn on a flat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 use symbols and colours to represent features of an area, simplifying the re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08400" y="3573360"/>
            <a:ext cx="54673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4680" y="150984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Earth is an example of a computer program using digital m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08400" y="691992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88000"/>
          </a:bodyPr>
          <a:p>
            <a:pPr marL="333720" indent="-333720"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earth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179800" y="2612880"/>
            <a:ext cx="59436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cal Map of Cana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932280" y="1317600"/>
            <a:ext cx="6019920" cy="4954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368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o this m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”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ap 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loured province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8320" y="6575400"/>
            <a:ext cx="87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You CAN use the same colour more than once, so long as it doesn’t touch a province or territory with that same col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inage Map of Cana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95680" y="1795320"/>
            <a:ext cx="5608800" cy="494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656560" y="6386400"/>
            <a:ext cx="1494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922640" cy="57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o this m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s, Lakes, Rivers, Bays, and Gulfs as listed on your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ap 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land coloured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ter coloured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ther land coloured grey (or bei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ar Island Mapping Exerc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land is in the shape of a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xactly 10 km long and 5 km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shoreline at 0 m (sea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hill at the south end of the island which is 90 m in heigh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d carefully the instructions provi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047080" y="1585800"/>
            <a:ext cx="1111320" cy="1538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591400" y="1787400"/>
            <a:ext cx="11113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atures on a Ma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585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dentifies the area shown, topic, focus, or purpose of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xplains the meaning of symbols and colours used on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epresents the relationship between distance on the map and distance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ften represented with an a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ets the map apart from o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 of Publ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ndicates how recent the map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 Labelling &amp; Colou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tograp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rt of drawing accurate, easily readable, attractive m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neatly pr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spelled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parallel to the base of the map (except for natural features such as rivers and mountain ran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t should be used to locate cities, with the name of the city as close to the dot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 Labelling &amp; Colou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eatures usually have larger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 for similar features should be the same size and font –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ter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 U N T R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 should not block other information on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 Labelling &amp; Colou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 should be properly colour coded to show the different areas on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e consistently so that there are no light or dark patches of one colour within one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lid colours only, not shad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or black are not acceptable shading 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y should be used for areas not important to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should only be used for water 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nts on a Compa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58988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ss is a way of findin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cardinal points are N, E, S,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elve ordinal points are NE, SE, SW, NW, NNE, ENE, ESE, SSE, SSW, WSW, WNW, N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s all have corresponding degrees of a circle (0° → 36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north_arrow" descr=""/>
          <p:cNvPicPr/>
          <p:nvPr/>
        </p:nvPicPr>
        <p:blipFill>
          <a:blip r:embed="rId2"/>
          <a:stretch/>
        </p:blipFill>
        <p:spPr>
          <a:xfrm>
            <a:off x="6904080" y="4100400"/>
            <a:ext cx="26226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es on the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lines that measure the distance north or south of the Equator (0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are parallel to the Equator at regular intervals (approximately 111 kilometres ap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8560" y="4253040"/>
            <a:ext cx="5985000" cy="280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08600" y="5243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08600" y="56246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08600" y="6843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8:59:57Z</dcterms:created>
  <dc:creator>Craig I.W. Marlatt</dc:creator>
  <dc:description/>
  <cp:keywords/>
  <dc:language>en-US</dc:language>
  <cp:lastModifiedBy>Customer</cp:lastModifiedBy>
  <dcterms:modified xsi:type="dcterms:W3CDTF">2009-02-06T19:20:10Z</dcterms:modified>
  <cp:revision>9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11033</vt:lpwstr>
  </property>
</Properties>
</file>